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F51-DED2-4BCB-ACB1-BFAD2348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D5C-DADD-4CB6-BF5E-71BA697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B32-13D6-4AC7-9783-BF4628AC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96F-681E-4FA3-A4BB-0DCCCDFB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D7E-D211-4EBB-AC5C-81DE249F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118-9D4D-465A-B598-F633D8E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C29-97D9-4F5B-ACBC-C99943EC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C84-7C86-4893-BAE9-890BFC30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1FC-B811-435C-9297-D360E65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4CE-580A-4FA1-A36E-03DF10B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A71-A9CA-40EB-979E-1882E20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79E-EF41-4120-8A1C-2FF9A03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322-2333-4A21-9B59-276A9F74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The Himalaya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By:  Ms.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ANCIENT INDI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im2"/>
          <p:cNvPicPr/>
          <p:nvPr/>
        </p:nvPicPr>
        <p:blipFill>
          <a:blip r:embed="rId2"/>
          <a:stretch/>
        </p:blipFill>
        <p:spPr>
          <a:xfrm>
            <a:off x="380880" y="1752480"/>
            <a:ext cx="2505240" cy="16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imalayas"/>
          <p:cNvPicPr/>
          <p:nvPr/>
        </p:nvPicPr>
        <p:blipFill>
          <a:blip r:embed="rId3"/>
          <a:stretch/>
        </p:blipFill>
        <p:spPr>
          <a:xfrm>
            <a:off x="2133720" y="3863880"/>
            <a:ext cx="24382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5410080" y="190512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00:19Z</dcterms:created>
  <dc:creator>MCPS</dc:creator>
  <dc:description/>
  <dc:language>en-US</dc:language>
  <cp:lastModifiedBy>cmrussell</cp:lastModifiedBy>
  <dcterms:modified xsi:type="dcterms:W3CDTF">2012-02-09T15:12:06Z</dcterms:modified>
  <cp:revision>6</cp:revision>
  <dc:subject/>
  <dc:title>Slide 1</dc:title>
</cp:coreProperties>
</file>